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20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23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92A-2259-4555-88C6-1D16DAE7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D9D-E4E1-426A-A25D-911CE383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DE0-8F9B-4586-8C27-E45289EE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DE5-2F04-46AF-8B4F-C4CE36A6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BBD-55E5-4ED0-9AAF-4093CBBA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BC8-A50E-4554-B890-68633E98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AA7-E673-44FC-9909-D1CD2963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E4F-460D-43AC-A147-BA002A5A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2B6-64A6-4B61-9B17-0DCEA1A9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F27-5062-43D1-A998-A58E139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954-4BE9-4D5E-9085-7666B0C8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444-C3A6-456F-BF90-68A0FA38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43ADF-A583-41FC-B6B9-A895E76DFA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646200" y="1052640"/>
            <a:ext cx="774684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Jenny and Danny Come to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32040" y="4370400"/>
            <a:ext cx="59166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4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531800" y="2492280"/>
            <a:ext cx="10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2552760" y="2328840"/>
            <a:ext cx="53085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t book is interesting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本书很有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1533600" y="3117960"/>
            <a:ext cx="14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词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3"/>
          <p:cNvSpPr/>
          <p:nvPr/>
        </p:nvSpPr>
        <p:spPr>
          <a:xfrm>
            <a:off x="2835360" y="2925720"/>
            <a:ext cx="2181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；这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7"/>
          <p:cNvSpPr/>
          <p:nvPr/>
        </p:nvSpPr>
        <p:spPr>
          <a:xfrm>
            <a:off x="1585800" y="1679400"/>
            <a:ext cx="36687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at /ðæ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那；那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1549440" y="370692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2577960" y="3541680"/>
            <a:ext cx="1803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5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2041560" y="191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3689280" y="1814400"/>
            <a:ext cx="19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指示代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1541520" y="2563920"/>
            <a:ext cx="5827680" cy="1700280"/>
          </a:xfrm>
          <a:prstGeom prst="rect">
            <a:avLst/>
          </a:prstGeom>
          <a:ln w="0">
            <a:noFill/>
          </a:ln>
        </p:spPr>
      </p:pic>
      <p:sp>
        <p:nvSpPr>
          <p:cNvPr id="160" name="矩形 1"/>
          <p:cNvSpPr/>
          <p:nvPr/>
        </p:nvSpPr>
        <p:spPr>
          <a:xfrm>
            <a:off x="1636560" y="4264200"/>
            <a:ext cx="688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hat           that bag   these books  those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顶帽子       那个书包     这些书   那些铅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3568680" y="1925640"/>
            <a:ext cx="345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离我们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离我们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单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复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可以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时我们要牢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2"/>
          <p:cNvGrpSpPr/>
          <p:nvPr/>
        </p:nvGrpSpPr>
        <p:grpSpPr>
          <a:xfrm>
            <a:off x="1533600" y="2044800"/>
            <a:ext cx="2403360" cy="459720"/>
            <a:chOff x="1533600" y="2044800"/>
            <a:chExt cx="2403360" cy="459720"/>
          </a:xfrm>
        </p:grpSpPr>
        <p:sp>
          <p:nvSpPr>
            <p:cNvPr id="166" name="TextBox 10"/>
            <p:cNvSpPr/>
            <p:nvPr/>
          </p:nvSpPr>
          <p:spPr>
            <a:xfrm>
              <a:off x="1849320" y="204480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533600" y="209232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 23"/>
          <p:cNvGrpSpPr/>
          <p:nvPr/>
        </p:nvGrpSpPr>
        <p:grpSpPr>
          <a:xfrm>
            <a:off x="-369720" y="4761000"/>
            <a:ext cx="1660320" cy="2087640"/>
            <a:chOff x="-369720" y="4761000"/>
            <a:chExt cx="1660320" cy="2087640"/>
          </a:xfrm>
        </p:grpSpPr>
        <p:pic>
          <p:nvPicPr>
            <p:cNvPr id="16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7200" y="4761000"/>
              <a:ext cx="50508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4592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文本框 8" descr=""/>
          <p:cNvPicPr/>
          <p:nvPr/>
        </p:nvPicPr>
        <p:blipFill>
          <a:blip r:embed="rId3"/>
          <a:stretch/>
        </p:blipFill>
        <p:spPr>
          <a:xfrm>
            <a:off x="2544840" y="95400"/>
            <a:ext cx="4497480" cy="15271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1670040" y="1573200"/>
            <a:ext cx="403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near. That is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ear. That is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these. You have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my kn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 are your t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, that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ar, far, now we k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 23"/>
          <p:cNvGrpSpPr/>
          <p:nvPr/>
        </p:nvGrpSpPr>
        <p:grpSpPr>
          <a:xfrm>
            <a:off x="-369720" y="4761000"/>
            <a:ext cx="1660320" cy="2087640"/>
            <a:chOff x="-369720" y="4761000"/>
            <a:chExt cx="1660320" cy="2087640"/>
          </a:xfrm>
        </p:grpSpPr>
        <p:pic>
          <p:nvPicPr>
            <p:cNvPr id="17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7200" y="4761000"/>
              <a:ext cx="50508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4592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文本框 8" descr=""/>
          <p:cNvPicPr/>
          <p:nvPr/>
        </p:nvPicPr>
        <p:blipFill>
          <a:blip r:embed="rId3"/>
          <a:stretch/>
        </p:blipFill>
        <p:spPr>
          <a:xfrm>
            <a:off x="2544840" y="95400"/>
            <a:ext cx="4186080" cy="1527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john\Desktop\3.png"/>
          <p:cNvPicPr/>
          <p:nvPr/>
        </p:nvPicPr>
        <p:blipFill>
          <a:blip r:embed="rId4"/>
          <a:stretch/>
        </p:blipFill>
        <p:spPr>
          <a:xfrm>
            <a:off x="439560" y="1085760"/>
            <a:ext cx="84186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 23"/>
          <p:cNvGrpSpPr/>
          <p:nvPr/>
        </p:nvGrpSpPr>
        <p:grpSpPr>
          <a:xfrm>
            <a:off x="-369720" y="4761000"/>
            <a:ext cx="1660320" cy="2087640"/>
            <a:chOff x="-369720" y="4761000"/>
            <a:chExt cx="1660320" cy="2087640"/>
          </a:xfrm>
        </p:grpSpPr>
        <p:pic>
          <p:nvPicPr>
            <p:cNvPr id="17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187200" y="4761000"/>
              <a:ext cx="50508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4592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文本框 8" descr=""/>
          <p:cNvPicPr/>
          <p:nvPr/>
        </p:nvPicPr>
        <p:blipFill>
          <a:blip r:embed="rId3"/>
          <a:stretch/>
        </p:blipFill>
        <p:spPr>
          <a:xfrm>
            <a:off x="1876320" y="101520"/>
            <a:ext cx="6053400" cy="1400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john\Desktop\3.png"/>
          <p:cNvPicPr/>
          <p:nvPr/>
        </p:nvPicPr>
        <p:blipFill>
          <a:blip r:embed="rId4"/>
          <a:stretch/>
        </p:blipFill>
        <p:spPr>
          <a:xfrm>
            <a:off x="708120" y="1128600"/>
            <a:ext cx="80182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17"/>
          <p:cNvSpPr/>
          <p:nvPr/>
        </p:nvSpPr>
        <p:spPr>
          <a:xfrm>
            <a:off x="3151080" y="1387440"/>
            <a:ext cx="48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字母组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w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及字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单词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əʊ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音的规则［难点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"/>
          <p:cNvGrpSpPr/>
          <p:nvPr/>
        </p:nvGrpSpPr>
        <p:grpSpPr>
          <a:xfrm>
            <a:off x="590400" y="1392120"/>
            <a:ext cx="2611440" cy="706680"/>
            <a:chOff x="590400" y="1392120"/>
            <a:chExt cx="2611440" cy="706680"/>
          </a:xfrm>
        </p:grpSpPr>
        <p:sp>
          <p:nvSpPr>
            <p:cNvPr id="188" name="圆角矩形 18"/>
            <p:cNvSpPr/>
            <p:nvPr/>
          </p:nvSpPr>
          <p:spPr>
            <a:xfrm>
              <a:off x="1304640" y="1487160"/>
              <a:ext cx="1824120" cy="47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9"/>
            <p:cNvSpPr/>
            <p:nvPr/>
          </p:nvSpPr>
          <p:spPr>
            <a:xfrm>
              <a:off x="1665360" y="1483200"/>
              <a:ext cx="15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90400" y="1392120"/>
              <a:ext cx="1116000" cy="706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1" name=""/>
          <p:cNvGraphicFramePr/>
          <p:nvPr/>
        </p:nvGraphicFramePr>
        <p:xfrm>
          <a:off x="1290600" y="2536920"/>
          <a:ext cx="7526160" cy="3565440"/>
        </p:xfrm>
        <a:graphic>
          <a:graphicData uri="http://schemas.openxmlformats.org/drawingml/2006/table">
            <a:tbl>
              <a:tblPr/>
              <a:tblGrid>
                <a:gridCol w="1479600"/>
                <a:gridCol w="604656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字母组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及例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w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now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雪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show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展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below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…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下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at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山羊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road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lso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也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go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, cold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冷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音要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由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ə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ʊ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两个单音组成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əʊ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的发音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一个过程，口型从半开到小，与字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的发音相同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口型示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9" descr=""/>
          <p:cNvPicPr/>
          <p:nvPr/>
        </p:nvPicPr>
        <p:blipFill>
          <a:blip r:embed="rId3"/>
          <a:stretch/>
        </p:blipFill>
        <p:spPr>
          <a:xfrm>
            <a:off x="4838760" y="4929120"/>
            <a:ext cx="139212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998640" y="1481040"/>
            <a:ext cx="714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爸爸要外出旅行，你想问爸爸需要一些什么，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这么说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ow do you do?         B. What are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What do you need for the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This sweater is too old. I need ______ a new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buying     B. bought     C. to 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4"/>
          <p:cNvGrpSpPr/>
          <p:nvPr/>
        </p:nvGrpSpPr>
        <p:grpSpPr>
          <a:xfrm>
            <a:off x="7090920" y="1214280"/>
            <a:ext cx="1710360" cy="368280"/>
            <a:chOff x="7090920" y="1214280"/>
            <a:chExt cx="1710360" cy="368280"/>
          </a:xfrm>
        </p:grpSpPr>
        <p:sp>
          <p:nvSpPr>
            <p:cNvPr id="197" name="矩形 15"/>
            <p:cNvSpPr/>
            <p:nvPr/>
          </p:nvSpPr>
          <p:spPr>
            <a:xfrm>
              <a:off x="7090920" y="12315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7"/>
            <p:cNvSpPr/>
            <p:nvPr/>
          </p:nvSpPr>
          <p:spPr>
            <a:xfrm>
              <a:off x="7147800" y="121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2"/>
          <p:cNvSpPr/>
          <p:nvPr/>
        </p:nvSpPr>
        <p:spPr>
          <a:xfrm>
            <a:off x="3571920" y="2712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5568840" y="436896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1425600" y="5443560"/>
            <a:ext cx="477036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9"/>
          <p:cNvSpPr/>
          <p:nvPr/>
        </p:nvSpPr>
        <p:spPr>
          <a:xfrm>
            <a:off x="2319480" y="5443560"/>
            <a:ext cx="39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need to do sth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需要做某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1790640" y="2000160"/>
            <a:ext cx="606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 _____ need a cam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ren’t          B. don’t      C.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I like ____ new s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is               B. a             C.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She likes _____ red swe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ese             B. those      C.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4"/>
          <p:cNvGrpSpPr/>
          <p:nvPr/>
        </p:nvGrpSpPr>
        <p:grpSpPr>
          <a:xfrm>
            <a:off x="7090920" y="1214280"/>
            <a:ext cx="1710360" cy="368280"/>
            <a:chOff x="7090920" y="1214280"/>
            <a:chExt cx="1710360" cy="368280"/>
          </a:xfrm>
        </p:grpSpPr>
        <p:sp>
          <p:nvSpPr>
            <p:cNvPr id="206" name="矩形 15"/>
            <p:cNvSpPr/>
            <p:nvPr/>
          </p:nvSpPr>
          <p:spPr>
            <a:xfrm>
              <a:off x="7090920" y="12315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17"/>
            <p:cNvSpPr/>
            <p:nvPr/>
          </p:nvSpPr>
          <p:spPr>
            <a:xfrm>
              <a:off x="7147800" y="121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2"/>
          <p:cNvSpPr/>
          <p:nvPr/>
        </p:nvSpPr>
        <p:spPr>
          <a:xfrm>
            <a:off x="2577960" y="212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3006720" y="324648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605040" y="431640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669960" y="1459080"/>
            <a:ext cx="82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 用指示代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This pear is big, but ______ one is sm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thes aren’t my favourite. My favourite are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______ woman is a teacher, but that woman is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24"/>
          <p:cNvGrpSpPr/>
          <p:nvPr/>
        </p:nvGrpSpPr>
        <p:grpSpPr>
          <a:xfrm>
            <a:off x="7090920" y="1173240"/>
            <a:ext cx="1710360" cy="368280"/>
            <a:chOff x="7090920" y="1173240"/>
            <a:chExt cx="1710360" cy="368280"/>
          </a:xfrm>
        </p:grpSpPr>
        <p:sp>
          <p:nvSpPr>
            <p:cNvPr id="215" name="矩形 25"/>
            <p:cNvSpPr/>
            <p:nvPr/>
          </p:nvSpPr>
          <p:spPr>
            <a:xfrm>
              <a:off x="7090920" y="119052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17"/>
            <p:cNvSpPr/>
            <p:nvPr/>
          </p:nvSpPr>
          <p:spPr>
            <a:xfrm>
              <a:off x="7147800" y="1173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3"/>
          <p:cNvSpPr/>
          <p:nvPr/>
        </p:nvSpPr>
        <p:spPr>
          <a:xfrm>
            <a:off x="3835440" y="24620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1019160" y="39178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1092240" y="538812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993600" y="3098880"/>
            <a:ext cx="37706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9"/>
          <p:cNvSpPr/>
          <p:nvPr/>
        </p:nvSpPr>
        <p:spPr>
          <a:xfrm>
            <a:off x="1887480" y="309888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is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对应词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a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993600" y="4575240"/>
            <a:ext cx="69408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3"/>
          <p:cNvSpPr/>
          <p:nvPr/>
        </p:nvSpPr>
        <p:spPr>
          <a:xfrm>
            <a:off x="1887480" y="4575240"/>
            <a:ext cx="67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os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的对应词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s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注意首字母应大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20920" y="461160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for your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https://ss0.bdstatic.com/70cFuHSh_Q1YnxGkpoWK1HF6hhy/it/u=2599114645,1615422735&amp;fm=26&amp;gp=0.jpg"/>
          <p:cNvPicPr/>
          <p:nvPr/>
        </p:nvPicPr>
        <p:blipFill>
          <a:blip r:embed="rId2"/>
          <a:stretch/>
        </p:blipFill>
        <p:spPr>
          <a:xfrm>
            <a:off x="1278000" y="2295360"/>
            <a:ext cx="2604960" cy="1737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https://ss0.bdstatic.com/70cFvHSh_Q1YnxGkpoWK1HF6hhy/it/u=1446667174,3742647072&amp;fm=26&amp;gp=0.jpg"/>
          <p:cNvPicPr/>
          <p:nvPr/>
        </p:nvPicPr>
        <p:blipFill>
          <a:blip r:embed="rId3"/>
          <a:stretch/>
        </p:blipFill>
        <p:spPr>
          <a:xfrm>
            <a:off x="4710240" y="2290680"/>
            <a:ext cx="302868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930240" y="99360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855720" y="2517840"/>
            <a:ext cx="708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ed  ticket  those 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need train tickets from Shijiazhu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these red tro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like those tro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3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32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2001960" y="49320"/>
            <a:ext cx="51084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282600" y="4619520"/>
            <a:ext cx="1660680" cy="2216160"/>
            <a:chOff x="-282600" y="4619520"/>
            <a:chExt cx="166068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42120" y="461952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82600" y="523260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636480" y="1203480"/>
            <a:ext cx="789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Tomorrow we will go to Beijing. Let’s get rea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We need train tickets from Shijiazhuang to Beij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ny: We need some food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Li: We need a cam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I need some clothes. I want to take my favourite  clot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文本框 25" descr=""/>
          <p:cNvPicPr/>
          <p:nvPr/>
        </p:nvPicPr>
        <p:blipFill>
          <a:blip r:embed="rId1"/>
          <a:stretch/>
        </p:blipFill>
        <p:spPr>
          <a:xfrm>
            <a:off x="2001960" y="49320"/>
            <a:ext cx="51084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74" name="组 19"/>
          <p:cNvGrpSpPr/>
          <p:nvPr/>
        </p:nvGrpSpPr>
        <p:grpSpPr>
          <a:xfrm>
            <a:off x="-282600" y="4619520"/>
            <a:ext cx="1660680" cy="2216160"/>
            <a:chOff x="-282600" y="4619520"/>
            <a:chExt cx="1660680" cy="2216160"/>
          </a:xfrm>
        </p:grpSpPr>
        <p:pic>
          <p:nvPicPr>
            <p:cNvPr id="7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42120" y="461952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82600" y="523260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658800" y="166536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I like these red trousers. Red is my favourite colo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like those tro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ike this blue sweater. It’s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like that orange swe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ike these sho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like those shoes. They are sm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7"/>
          <p:cNvSpPr/>
          <p:nvPr/>
        </p:nvSpPr>
        <p:spPr>
          <a:xfrm>
            <a:off x="2941560" y="1440000"/>
            <a:ext cx="567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 need train tickets from Shijiazhu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o Beijing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需要从石家庄到北京的火车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360360" y="1487520"/>
            <a:ext cx="2549520" cy="666720"/>
            <a:chOff x="360360" y="1487520"/>
            <a:chExt cx="2549520" cy="666720"/>
          </a:xfrm>
        </p:grpSpPr>
        <p:sp>
          <p:nvSpPr>
            <p:cNvPr id="86" name="圆角矩形 18"/>
            <p:cNvSpPr/>
            <p:nvPr/>
          </p:nvSpPr>
          <p:spPr>
            <a:xfrm>
              <a:off x="1131840" y="15652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9"/>
            <p:cNvSpPr/>
            <p:nvPr/>
          </p:nvSpPr>
          <p:spPr>
            <a:xfrm>
              <a:off x="1413000" y="154620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60360" y="148752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5"/>
          <p:cNvSpPr/>
          <p:nvPr/>
        </p:nvSpPr>
        <p:spPr>
          <a:xfrm>
            <a:off x="138744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2347920" y="3641760"/>
            <a:ext cx="61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ed + sth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需要某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ed +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 sth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需要做某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否定句时直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e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7"/>
          <p:cNvSpPr/>
          <p:nvPr/>
        </p:nvSpPr>
        <p:spPr>
          <a:xfrm>
            <a:off x="1403280" y="3086280"/>
            <a:ext cx="26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eed /niːd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390680" y="53848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2351160" y="5283360"/>
            <a:ext cx="62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need some banana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需要一些香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don’t need to wor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不需要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030320" y="269244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1943280" y="2540160"/>
            <a:ext cx="6244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ticket of Wang Fei’s concert is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王菲演唱会的门票很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7"/>
          <p:cNvSpPr/>
          <p:nvPr/>
        </p:nvSpPr>
        <p:spPr>
          <a:xfrm>
            <a:off x="1071720" y="191772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icket /tɪkɪ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031760" y="403236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1944720" y="3879720"/>
            <a:ext cx="4714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in ticke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火车票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ne ticke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飞机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https://ss3.bdstatic.com/70cFv8Sh_Q1YnxGkpoWK1HF6hhy/it/u=2949084809,4266917054&amp;fm=26&amp;gp=0.jpg"/>
          <p:cNvPicPr/>
          <p:nvPr/>
        </p:nvPicPr>
        <p:blipFill>
          <a:blip r:embed="rId2"/>
          <a:stretch/>
        </p:blipFill>
        <p:spPr>
          <a:xfrm>
            <a:off x="5748480" y="3811680"/>
            <a:ext cx="219204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7"/>
          <p:cNvSpPr/>
          <p:nvPr/>
        </p:nvSpPr>
        <p:spPr>
          <a:xfrm>
            <a:off x="2577960" y="1633680"/>
            <a:ext cx="63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like these red trousers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喜欢这条红裤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don’t like those trousers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不喜欢那条裤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112680" y="1747800"/>
            <a:ext cx="2516400" cy="633600"/>
            <a:chOff x="112680" y="1747800"/>
            <a:chExt cx="2516400" cy="633600"/>
          </a:xfrm>
        </p:grpSpPr>
        <p:sp>
          <p:nvSpPr>
            <p:cNvPr id="108" name="圆角矩形 18"/>
            <p:cNvSpPr/>
            <p:nvPr/>
          </p:nvSpPr>
          <p:spPr>
            <a:xfrm>
              <a:off x="806400" y="1820880"/>
              <a:ext cx="1770120" cy="42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19"/>
            <p:cNvSpPr/>
            <p:nvPr/>
          </p:nvSpPr>
          <p:spPr>
            <a:xfrm>
              <a:off x="1138320" y="1780200"/>
              <a:ext cx="14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112680" y="1747800"/>
              <a:ext cx="1082880" cy="63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2206800" y="2789280"/>
            <a:ext cx="4221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某人喜恶的句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like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喜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1171440" y="2954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238400" y="4781520"/>
            <a:ext cx="9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2151000" y="4629240"/>
            <a:ext cx="57895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Englis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喜欢英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like that ma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喜欢那位男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2" descr=""/>
          <p:cNvPicPr/>
          <p:nvPr/>
        </p:nvPicPr>
        <p:blipFill>
          <a:blip r:embed="rId3"/>
          <a:stretch/>
        </p:blipFill>
        <p:spPr>
          <a:xfrm>
            <a:off x="1200240" y="2220840"/>
            <a:ext cx="11430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6972480" y="130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3"/>
          <p:cNvGrpSpPr/>
          <p:nvPr/>
        </p:nvGrpSpPr>
        <p:grpSpPr>
          <a:xfrm>
            <a:off x="912960" y="4194000"/>
            <a:ext cx="1244520" cy="459720"/>
            <a:chOff x="912960" y="4194000"/>
            <a:chExt cx="1244520" cy="459720"/>
          </a:xfrm>
        </p:grpSpPr>
        <p:sp>
          <p:nvSpPr>
            <p:cNvPr id="122" name="TextBox 3"/>
            <p:cNvSpPr/>
            <p:nvPr/>
          </p:nvSpPr>
          <p:spPr>
            <a:xfrm>
              <a:off x="1165680" y="41940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912960" y="423648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矩形 16"/>
          <p:cNvSpPr/>
          <p:nvPr/>
        </p:nvSpPr>
        <p:spPr>
          <a:xfrm>
            <a:off x="2157480" y="4092480"/>
            <a:ext cx="647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词成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n’t, Miss Liu, like, by bus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, go to work (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184480" y="5272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ss Liu doesn't like to go to work by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1447920" y="1635120"/>
            <a:ext cx="769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主语是第三人称单数时，肯定句结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..likes..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句结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n’t like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Lei likes this sweate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李磊喜欢这件毛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doesn’t like her work.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不喜欢她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9"/>
          <p:cNvGrpSpPr/>
          <p:nvPr/>
        </p:nvGrpSpPr>
        <p:grpSpPr>
          <a:xfrm>
            <a:off x="351000" y="1774800"/>
            <a:ext cx="1093680" cy="459720"/>
            <a:chOff x="351000" y="1774800"/>
            <a:chExt cx="1093680" cy="459720"/>
          </a:xfrm>
        </p:grpSpPr>
        <p:sp>
          <p:nvSpPr>
            <p:cNvPr id="128" name="TextBox 5"/>
            <p:cNvSpPr/>
            <p:nvPr/>
          </p:nvSpPr>
          <p:spPr>
            <a:xfrm>
              <a:off x="591840" y="1774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图片 18" descr=""/>
            <p:cNvPicPr/>
            <p:nvPr/>
          </p:nvPicPr>
          <p:blipFill>
            <a:blip r:embed="rId3"/>
            <a:stretch/>
          </p:blipFill>
          <p:spPr>
            <a:xfrm>
              <a:off x="351000" y="182160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7"/>
          <p:cNvSpPr/>
          <p:nvPr/>
        </p:nvSpPr>
        <p:spPr>
          <a:xfrm>
            <a:off x="3576600" y="1798560"/>
            <a:ext cx="1519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指示代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933480" y="1871640"/>
            <a:ext cx="2549520" cy="666720"/>
            <a:chOff x="933480" y="1871640"/>
            <a:chExt cx="2549520" cy="666720"/>
          </a:xfrm>
        </p:grpSpPr>
        <p:sp>
          <p:nvSpPr>
            <p:cNvPr id="135" name="圆角矩形 18"/>
            <p:cNvSpPr/>
            <p:nvPr/>
          </p:nvSpPr>
          <p:spPr>
            <a:xfrm>
              <a:off x="1704960" y="1949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19"/>
            <p:cNvSpPr/>
            <p:nvPr/>
          </p:nvSpPr>
          <p:spPr>
            <a:xfrm>
              <a:off x="1986120" y="19303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933480" y="187164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Box 5"/>
          <p:cNvSpPr/>
          <p:nvPr/>
        </p:nvSpPr>
        <p:spPr>
          <a:xfrm>
            <a:off x="1968480" y="3270240"/>
            <a:ext cx="10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989440" y="3106800"/>
            <a:ext cx="48164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ose pencils are in the penci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些铅笔在铅笔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969920" y="4576680"/>
            <a:ext cx="14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应词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3271680" y="4384800"/>
            <a:ext cx="1683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>
            <a:off x="5095800" y="182736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7"/>
          <p:cNvSpPr/>
          <p:nvPr/>
        </p:nvSpPr>
        <p:spPr>
          <a:xfrm>
            <a:off x="2022480" y="2457360"/>
            <a:ext cx="33415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ose /ðəʊz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那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2:56:27Z</dcterms:modified>
  <cp:revision>8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